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E21-DB40-463C-B929-4F08CB1DA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902-973B-42C3-B859-06E48459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A937-3EDA-4601-A583-5D863DE4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C50A-EC48-49C3-AF1F-E684526D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FE8-C50C-40DA-A24D-1D144BAE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CAA2-20C6-41E8-AD9B-19E3D345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BF1-2EF3-4734-BCCA-03D7AA23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8B1A-5DF4-485E-93B2-D4335DD6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D56-A393-4B5D-86C8-CAA560D7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A7B-0CFB-49A7-A3F3-03741D01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EB6-00E1-4ED8-9EDF-013D8493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D24-A860-438C-9BBD-7DA82944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F5FA-3B43-4815-9317-CF8DACE14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304920"/>
          <a:ext cx="8610480" cy="5705280"/>
        </p:xfrm>
        <a:graphic>
          <a:graphicData uri="http://schemas.openxmlformats.org/drawingml/2006/table">
            <a:tbl>
              <a:tblPr/>
              <a:tblGrid>
                <a:gridCol w="2152800"/>
                <a:gridCol w="2266920"/>
                <a:gridCol w="1752480"/>
                <a:gridCol w="2438280"/>
              </a:tblGrid>
              <a:tr h="365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AFT ACTIVITY ON FR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d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considered Part of the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per F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xed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ciliation Let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e More Alike than Differ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mplified F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Non-Simplified F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Service Announc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Case for Simpli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est Common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rsery Rhy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’m the Greates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valent Fra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Equival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Find Your Soul M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 Common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tiple Sets of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maller the Bet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 Denominators in an Additional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ke Denominators in an Addition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fo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come A Like Denomin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Mixed Number that Needs to be Renamed to Subtr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rade Math Stu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d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My New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 Denominators in a Subtraction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ke Denominators in a Subtraction Prob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Bo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to Become a Like Denomin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k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Double the Rec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S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ions/Mixed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ice Colu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come Well Round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9:00:05Z</dcterms:created>
  <dc:creator>CABELL BOE</dc:creator>
  <dc:description/>
  <dc:language>en-US</dc:language>
  <cp:lastModifiedBy>CABELL BOE</cp:lastModifiedBy>
  <dcterms:modified xsi:type="dcterms:W3CDTF">2009-06-01T19:00:45Z</dcterms:modified>
  <cp:revision>2</cp:revision>
  <dc:subject/>
  <dc:title>Slide 1</dc:title>
</cp:coreProperties>
</file>